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506-1FC1-4A03-9098-B9025164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CCE-E3F1-4C5E-BF3A-9B360C02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008-83B2-47E7-BF93-4C2A1709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FA7-28CD-4966-A50C-D0B82195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D45-7261-403D-ACD0-9985307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FD9-DBF4-495B-BF44-57EAC05B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8C8-EB97-420A-A3A3-FB965A23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244-E216-4EA8-9417-821759C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EBF-C350-4B61-B9AF-903853C5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FF7-CCB2-433A-AA50-8C050CA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937-7DBA-4279-B793-25FD923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2E5-5890-4E74-86A0-5DFE37F2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637-8F0E-4596-916C-36D9D8ACD6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Safety and Lab Equipment</a:t>
            </a:r>
            <a:br>
              <a:rPr sz="4400"/>
            </a:b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5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95280" y="234936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ing Clamp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ce cream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5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95280" y="234936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Ring Clamp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ce cream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6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700280"/>
            <a:ext cx="52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/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3924360" y="3860640"/>
            <a:ext cx="4968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6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95280" y="1700280"/>
            <a:ext cx="52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Test tub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/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3924360" y="3860640"/>
            <a:ext cx="4968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7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79600" y="2152800"/>
            <a:ext cx="467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2849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7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79600" y="2152800"/>
            <a:ext cx="467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2849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8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pot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irr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ye Dr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coo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8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pot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irr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ye Dr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Scoo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9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81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9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81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0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s causing other toxic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035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0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Dangerously reactiv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xidiz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s causing other toxic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035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98900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um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ety Go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ety Sh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Bla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98900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um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Safety Go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ety Sh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Bla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2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aker t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62197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68360" y="47628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2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1700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re extingu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c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eaker t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62197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1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11280" y="292428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2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995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2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995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3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79280" y="285264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emical Spill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wa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ye wash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39640" y="83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3. This piece of lab or safety equipment is a(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79280" y="2852640"/>
            <a:ext cx="46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rlenmeyer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hemical Spill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st tube wa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Eye wash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4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67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9640" y="83664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4. This safety symbo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9600" y="2152800"/>
            <a:ext cx="467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oisonous material causing immediate and tox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mpresse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iohazardous infecti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67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3:26:40Z</dcterms:created>
  <dc:creator>Brian</dc:creator>
  <dc:description/>
  <dc:language>en-US</dc:language>
  <cp:lastModifiedBy>Lim, Brian</cp:lastModifiedBy>
  <dcterms:modified xsi:type="dcterms:W3CDTF">2016-02-24T17:09:07Z</dcterms:modified>
  <cp:revision>17</cp:revision>
  <dc:subject/>
  <dc:title>Safety and Lab Equipment Questions</dc:title>
</cp:coreProperties>
</file>